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BC3-97BA-4B52-AD21-804801EC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490-0AEF-48D5-AD49-4ADC6E0B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11F-D045-4D49-9DE3-DD53FB76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C513-3FA5-45FC-954B-6A33589F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D58-10AD-4BC2-BA4C-A3DB0AC3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EB4-7CA8-4C3C-BEC5-8A43D301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6D2-FE11-4943-B0F3-EBDD68B1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F443-59DC-45B8-A5BE-F945D395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F33-EA1F-4D61-AD16-3999D895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586-4660-4845-AFAB-484B01BB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BA66-9B99-434F-8112-18BFE7F2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6C7B-52C4-46BA-B8AE-E5818BF7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F24B-552C-4778-B8B3-822731894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undlesociety.org/Media/Image/418/Full/multi-sports.gif" TargetMode="External"/><Relationship Id="rId2" Type="http://schemas.openxmlformats.org/officeDocument/2006/relationships/hyperlink" Target="http://studenthacks.org/wp-content/uploads/2007/09/test.jpg" TargetMode="External"/><Relationship Id="rId3" Type="http://schemas.openxmlformats.org/officeDocument/2006/relationships/hyperlink" Target="http://www.craftconn.com/images/cpljvgstarry.jpg" TargetMode="External"/><Relationship Id="rId4" Type="http://schemas.openxmlformats.org/officeDocument/2006/relationships/hyperlink" Target="http://www.masternewmedia.org/images/free_music_online.jp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1"/>
          <a:stretch/>
        </p:blipFill>
        <p:spPr>
          <a:xfrm>
            <a:off x="2305080" y="2225520"/>
            <a:ext cx="440676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Placeholder 4" descr="bubbletest.JPG"/>
          <p:cNvPicPr/>
          <p:nvPr/>
        </p:nvPicPr>
        <p:blipFill>
          <a:blip r:embed="rId1"/>
          <a:srcRect l="1615" t="0" r="1615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440" y="5181480"/>
            <a:ext cx="56750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Which brings us to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Placeholder 4" descr="Capture.JPG"/>
          <p:cNvPicPr/>
          <p:nvPr/>
        </p:nvPicPr>
        <p:blipFill>
          <a:blip r:embed="rId1"/>
          <a:srcRect l="0" t="4642" r="0" b="4642"/>
          <a:stretch/>
        </p:blipFill>
        <p:spPr>
          <a:xfrm>
            <a:off x="1523880" y="228600"/>
            <a:ext cx="5907240" cy="4430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18960" y="48006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I’ve learned that you need to be creative and work with all your student’s needs. Sometimes you even have to teach them that grades are not all that mat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Placeholder 4" descr="teachtolearn.JPG"/>
          <p:cNvPicPr/>
          <p:nvPr/>
        </p:nvPicPr>
        <p:blipFill>
          <a:blip r:embed="rId1"/>
          <a:srcRect l="0" t="2125" r="0" b="212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23880" y="4876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6a6a6"/>
                </a:solidFill>
                <a:latin typeface="Calibri"/>
              </a:rPr>
              <a:t>Teaching to learn is one of the most important concepts that I have learned this semes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Placeholder 4" descr="Dunkin%20Donuts.jpg"/>
          <p:cNvPicPr/>
          <p:nvPr/>
        </p:nvPicPr>
        <p:blipFill>
          <a:blip r:embed="rId1"/>
          <a:srcRect l="0" t="21878" r="0" b="21878"/>
          <a:stretch/>
        </p:blipFill>
        <p:spPr>
          <a:xfrm>
            <a:off x="1676520" y="4572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371600" y="5105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6a6a6"/>
                </a:solidFill>
                <a:latin typeface="Calibri"/>
              </a:rPr>
              <a:t>A Dunkin Donuts medium cappuccino  cost $2.29 is the second most important thing that I have learn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Placeholder 4" descr="me.jpg"/>
          <p:cNvPicPr/>
          <p:nvPr/>
        </p:nvPicPr>
        <p:blipFill>
          <a:blip r:embed="rId1"/>
          <a:srcRect l="0" t="22184" r="0" b="2218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I survived??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0" y="686160"/>
            <a:ext cx="914400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constructict.com/blog/wp-content/uploads/2007/03/assessment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rt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http://www.oundlesociety.org/Media/Image/418/Full/multi-sports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o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http://studenthacks.org/wp-content/uploads/2007/09/test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http://www.craftconn.com/images/cpljvgstarry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i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http://www.masternewmedia.org/images/free_music_online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counties.cce.cornell.edu/sullivan/nat%20resoure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tur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mcmel.org/erica.mi/GardnersPieChart7int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wichita.edu/thisis/images/secondary/academics/education_top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ach to learn pho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businessinnovationinsider.com/images/2006/04/Dunkin%20Donut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unk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228600" y="3808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use Backward Desig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movie1.JPG"/>
          <p:cNvPicPr/>
          <p:nvPr/>
        </p:nvPicPr>
        <p:blipFill>
          <a:blip r:embed="rId1"/>
          <a:stretch/>
        </p:blipFill>
        <p:spPr>
          <a:xfrm>
            <a:off x="2590920" y="304920"/>
            <a:ext cx="37036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Placeholder 4" descr="movie2.JPG"/>
          <p:cNvPicPr/>
          <p:nvPr/>
        </p:nvPicPr>
        <p:blipFill>
          <a:blip r:embed="rId1"/>
          <a:srcRect l="0" t="19551" r="0" b="19551"/>
          <a:stretch/>
        </p:blipFill>
        <p:spPr>
          <a:xfrm>
            <a:off x="2133720" y="990720"/>
            <a:ext cx="4836960" cy="3284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905120" y="49528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Because small piece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Placeholder 4" descr="movie3.JPG"/>
          <p:cNvPicPr/>
          <p:nvPr/>
        </p:nvPicPr>
        <p:blipFill>
          <a:blip r:embed="rId1"/>
          <a:srcRect l="0" t="7760" r="0" b="776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add up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Placeholder 4" descr="movie4.JPG"/>
          <p:cNvPicPr/>
          <p:nvPr/>
        </p:nvPicPr>
        <p:blipFill>
          <a:blip r:embed="rId1"/>
          <a:srcRect l="0" t="4560" r="0" b="456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to make a Big Pic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Placeholder 4" descr="mi's.JPG"/>
          <p:cNvPicPr/>
          <p:nvPr/>
        </p:nvPicPr>
        <p:blipFill>
          <a:blip r:embed="rId1"/>
          <a:srcRect l="0" t="13456" r="0" b="13456"/>
          <a:stretch/>
        </p:blipFill>
        <p:spPr>
          <a:xfrm>
            <a:off x="1905120" y="152280"/>
            <a:ext cx="5005440" cy="3965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143000" y="51051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Why have a differentiated class ro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Placeholder 4" descr="moviemusic.JPG"/>
          <p:cNvPicPr/>
          <p:nvPr/>
        </p:nvPicPr>
        <p:blipFill>
          <a:blip r:embed="rId1"/>
          <a:srcRect l="0" t="2832" r="0" b="283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674208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Because some students learn like th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Placeholder 4" descr="kinesthetic.JPG"/>
          <p:cNvPicPr/>
          <p:nvPr/>
        </p:nvPicPr>
        <p:blipFill>
          <a:blip r:embed="rId1"/>
          <a:srcRect l="0" t="24860" r="0" b="2486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Or like thi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Placeholder 4" descr="natural.JPG"/>
          <p:cNvPicPr/>
          <p:nvPr/>
        </p:nvPicPr>
        <p:blipFill>
          <a:blip r:embed="rId1"/>
          <a:srcRect l="0" t="639" r="0" b="63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Or even like thi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01:38:26Z</dcterms:created>
  <dc:creator>lydia kinney</dc:creator>
  <dc:description/>
  <dc:language>en-US</dc:language>
  <cp:lastModifiedBy>lydia kinney</cp:lastModifiedBy>
  <dcterms:modified xsi:type="dcterms:W3CDTF">2008-04-13T18:45:10Z</dcterms:modified>
  <cp:revision>11</cp:revision>
  <dc:subject/>
  <dc:title>Slide 1</dc:title>
</cp:coreProperties>
</file>